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6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<Relationship Id="rId52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172A-1EFB-4A34-891E-82F6F47BDFC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3330-A9BC-4339-A3DF-2FDEBF4ECA2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6E61-97C7-4BF5-B366-41BF1D6BFF5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AEDB-B81B-421B-B94C-7FEFE11816D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AEC6-CB2F-4F60-9062-E41E7A1D163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F577-E2C1-4E95-954F-6AD35587A24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0F03-F538-4328-A64C-9119F9D0F72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6DC8-FA6B-4F3A-8B62-AB714646EFD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8BCA-C24C-4140-B778-9168242FE7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8734-D7ED-419E-BA41-DAA4AE7E87C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9F66-8775-4C91-8B29-3C5EE2A9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D29-6875-4722-83E3-D954D467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C7C-7FF1-4A05-8454-8CD1F4F7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228-4031-40FF-95B9-57A34BC9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253C-686A-4734-BE9F-28FFA503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DD70-E6B5-488D-B242-99106B19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EA36-D0CE-48E9-ADBC-6A98BD93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FD06-B77C-400C-BEFF-44F38690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212C-3E5C-47BD-B7DD-B2CBE2EC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D946-CDD6-4754-8AFD-54D2BC95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4CD9-2293-46DD-BF72-7C8641ED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73B-7FEA-41F6-8C4F-E13E6AAC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46E1-BD57-4391-A3B1-2100CE37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9B93-EDF7-4F51-A20D-6453E5A2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CDE1-A1B3-477B-8861-5AE8332E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69A2-6DCB-4146-9A23-D8922FF5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059F-61A3-4BE5-91B7-C19F7A2C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1206-E790-4356-86AD-4B461B04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03B0-C7D2-4B4F-90CC-612CAFAD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5E0-C1DF-42CF-9E9F-2BBDE21F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588B-C11C-454A-BE4B-C271FDF0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AEDA-C6B8-455B-9BA7-88E9B1BB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E17-9DDA-4711-90BC-FA7629CD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80F-D5AE-4153-8546-BD96B5C6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8587-77F3-4035-BE85-4AA9521EF3C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9D77-91D6-46ED-A839-5B0CC1A6442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Implementación de medidas de manera que se exija al solicitante de una patente relativa a materiales biológicos o a conocimientos tradicion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vulgación de la fuente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aís de orige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l recurso biológico y de los conocimientos tradicionales utilizados en la inven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s d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sentimiento fundamentado previo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ediante la aprobación de las autoridades en el marco de los regímenes nacionales pertin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stribución justa y equitativ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os beneficios conforme al régimen nacional del país de ori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revenció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biopiraterí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apropiación indebid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, evitar “patentes indebidas”, concedidas sin el apropiado examen del uso anterior del recurso y de los conocimientos previos al resp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ermitir a la oficina de patentes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firmar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ás eficazmente 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“actividad inventiva”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reivindicada en una determinada solicitud de pat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Aumentar la capacidad de los países de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seguir la pista de las patentes indebida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, cuando se las conceda, e  impugnar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Mejorar el cumplimiento de sus leyes nacionale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sobre el consentimiento fundamentado previo y la distribución justa y equitativa de los beneficios, antes del acceso a los recursos biológicos o los conocimientos tradicionales conex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8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8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8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8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8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8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7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7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3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3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8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9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2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2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2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7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7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3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buClr>
                <a:srgbClr val="ffcc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) Multilateral: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i) 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10-15T21:05:37Z</dcterms:modified>
  <cp:revision>75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